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224-0552-44EB-A443-8E687DEB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07D-E1C9-4AC6-B58E-EDC94343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6F7-B2B6-4962-947D-D0637377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A89-3F85-4CB1-BA35-AA653D80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6314-D25D-491B-A9C3-F6C40A58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EDD9-9774-4AE9-A08E-883B14A3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6580-177F-4678-8DFE-AFB21EE1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E1D8-C878-4A32-A8C8-E25E0ECC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1572-635D-4A4A-B02C-08F97871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5FC2-830E-4999-AA6C-56CB32E8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B2B7-8455-4676-917C-E9F2697A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54B-5FF3-43FF-AB98-22C60E62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C220-2022-4054-933F-73697777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07E4-0794-4BFC-8523-B0A1A6AD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9964-007C-4BF0-A70C-A82CEA28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BA76-561F-4365-B222-DCA4EED0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8476-E058-4F5C-832D-1953C1C5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8EB-925C-477B-A2DB-5F76D801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2B5-7019-4014-A85F-FC0C0E60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51A-8B6F-4DDE-A1F7-37AA9F89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0EE-1E0F-4A6E-9A2D-9D09EBD9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D8F-5FE8-42A1-B069-70D9FDEB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5C7-32A5-44BC-8112-735037F0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7707-08E7-460A-9613-F4839E82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B5B9-4B1D-4946-BFC8-318A38E638F3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821E-0FDC-48FF-9B0A-3DF982DB6DAA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4769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465480" y="549360"/>
            <a:ext cx="598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Blackadder ITC"/>
              </a:rPr>
              <a:t>Cathy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Blackadder ITC"/>
              </a:rPr>
              <a:t>Freema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 rot="222000">
            <a:off x="3276720" y="2060640"/>
            <a:ext cx="25794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69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Blackadder ITC"/>
              </a:rPr>
              <a:t>Commonwealth Games in Auckland, New Zeal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 rot="926400">
            <a:off x="5795640" y="2565360"/>
            <a:ext cx="2154240" cy="3097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4360" y="3357720"/>
            <a:ext cx="36003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5200"/>
                </a:solidFill>
                <a:latin typeface="Comic Sans MS"/>
              </a:rPr>
              <a:t>Gold medal in 19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5200"/>
                </a:solidFill>
                <a:latin typeface="Comic Sans MS"/>
              </a:rPr>
              <a:t>First top-level        </a:t>
            </a:r>
            <a:r>
              <a:rPr b="0" lang="en-US" sz="2800" spc="-1" strike="noStrike">
                <a:solidFill>
                  <a:srgbClr val="a452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a45200"/>
                </a:solidFill>
                <a:latin typeface="Comic Sans MS"/>
              </a:rPr>
              <a:t>event</a:t>
            </a:r>
            <a:r>
              <a:rPr b="0" lang="en-US" sz="2800" spc="-1" strike="noStrike">
                <a:solidFill>
                  <a:srgbClr val="a452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a452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76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260280"/>
            <a:ext cx="52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Blackadder ITC"/>
              </a:rPr>
              <a:t>World  Championships in Athe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731400">
            <a:off x="4572000" y="2852640"/>
            <a:ext cx="4176720" cy="2965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00000" y="414972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5200"/>
                </a:solidFill>
                <a:latin typeface="Comic Sans MS"/>
              </a:rPr>
              <a:t>Gold Medal in 1990</a:t>
            </a:r>
            <a:r>
              <a:rPr b="0" lang="en-US" sz="1800" spc="-1" strike="noStrike">
                <a:solidFill>
                  <a:srgbClr val="a452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47694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0920" y="333360"/>
            <a:ext cx="60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Blackadder ITC"/>
              </a:rPr>
              <a:t>Commonwealth Games in Victoria, Canad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3429000"/>
            <a:ext cx="295272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5200"/>
                </a:solidFill>
                <a:latin typeface="Comic Sans MS"/>
              </a:rPr>
              <a:t>Gold medals in </a:t>
            </a:r>
            <a:r>
              <a:rPr b="0" lang="en-US" sz="2400" spc="-1" strike="noStrike">
                <a:solidFill>
                  <a:srgbClr val="a452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a45200"/>
                </a:solidFill>
                <a:latin typeface="Comic Sans MS"/>
              </a:rPr>
              <a:t>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5200"/>
                </a:solidFill>
                <a:latin typeface="Comic Sans MS"/>
              </a:rPr>
              <a:t>Smashed                      Commonwealth 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 rot="843000">
            <a:off x="4427280" y="2852280"/>
            <a:ext cx="388296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7694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50920" y="333360"/>
            <a:ext cx="504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Blackadder ITC"/>
              </a:rPr>
              <a:t>The Olympic Games in Atlanta, U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3716280"/>
            <a:ext cx="345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5200"/>
                </a:solidFill>
                <a:latin typeface="Comic Sans MS"/>
              </a:rPr>
              <a:t>Silver medal in the 400 metres in 19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5200"/>
                </a:solidFill>
                <a:latin typeface="Comic Sans MS"/>
              </a:rPr>
              <a:t>6</a:t>
            </a:r>
            <a:r>
              <a:rPr b="0" lang="en-US" sz="2400" spc="-1" strike="noStrike" baseline="30000">
                <a:solidFill>
                  <a:srgbClr val="a452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a45200"/>
                </a:solidFill>
                <a:latin typeface="Comic Sans MS"/>
              </a:rPr>
              <a:t> fastest woman ever 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rot="633600">
            <a:off x="4643280" y="2852280"/>
            <a:ext cx="33847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4769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56000" y="4724280"/>
            <a:ext cx="70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Blackadder ITC"/>
              </a:rPr>
              <a:t>World championship in Seville, Sp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 rot="21033000">
            <a:off x="1042920" y="980640"/>
            <a:ext cx="2268720" cy="338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00720" y="1484280"/>
            <a:ext cx="24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45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5200"/>
                </a:solidFill>
                <a:latin typeface="Comic Sans MS"/>
              </a:rPr>
              <a:t>In the 400 metres in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47694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476280"/>
            <a:ext cx="604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472428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Blackadder ITC"/>
              </a:rPr>
              <a:t>Olympic Games in Sydney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1125360"/>
            <a:ext cx="324000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old medal in 400 metres in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egend of Austr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 rot="20911800">
            <a:off x="900000" y="1557360"/>
            <a:ext cx="309564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6949"/>
            </a:gs>
            <a:gs pos="100000">
              <a:srgbClr val="cc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2949840" cy="360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rot="20326200">
            <a:off x="797760" y="219564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ustralian first Aboriginal woman to win an Olympic Tr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391200">
            <a:off x="6443280" y="1988640"/>
            <a:ext cx="2050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he is a legend of Australia.</a:t>
            </a:r>
            <a:r>
              <a:rPr b="0" lang="en-US" sz="6000" spc="-1" strike="noStrike">
                <a:solidFill>
                  <a:srgbClr val="ffffff"/>
                </a:solidFill>
                <a:latin typeface="Blackadder ITC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2:07:40Z</dcterms:created>
  <dc:creator>Reservoir District Secondary College</dc:creator>
  <dc:description/>
  <dc:language>en-US</dc:language>
  <cp:lastModifiedBy>Reservoir District Secondary College</cp:lastModifiedBy>
  <dcterms:modified xsi:type="dcterms:W3CDTF">2008-07-17T02:44:29Z</dcterms:modified>
  <cp:revision>7</cp:revision>
  <dc:subject/>
  <dc:title>Slide 1</dc:title>
</cp:coreProperties>
</file>